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B26-C055-41EB-8A97-B9FBCD597715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F0E-C8CA-444C-B2D2-B15D0405B99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CB43-4625-42FD-BBDF-61D5C53EB31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C966-0781-46C6-AA81-AB428F85911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6FE-BB2E-4E7A-8D8E-7151A93E998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9D7-423A-433B-9BE8-DF35436C7E8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D2E3-C76C-46D8-BCFD-0AC7E6161C9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E004-7C77-4E64-AA73-64BE08BC078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DC7-7465-445A-9B10-C79C8AB682D5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CB3A-4236-4D47-945B-E39743ECE44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0281-7C3C-42F7-B222-5A209EBBFBD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2AC-EA1F-49E6-9D45-62184D7E4715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9AA-B35A-4881-BF4B-1B6169E6B7A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AD2-072C-4F58-AAA3-2A015399733C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5DA5-476F-4EF8-BA7F-E5F7EF3CBF1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4B9-1FB4-4590-86C4-D3AE9CA3E54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358-76F3-4689-B208-3410CE32F6D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5B6-40AE-4CEB-96EA-DD82A2CC551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1FC-5C1D-4859-9D30-29C28A12F6F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22C-37FA-49DD-B8A9-B1824198075C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9A9-F138-435D-807A-7FF88AFBC27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861-A519-4180-BA87-B7886AB0E59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5F83-D787-4E90-8099-ECEADE3042F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4F9-3752-4FEB-8DBF-9F7502FC99B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E8E0-94D1-4CCC-BF13-999B72E1CDA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B8E6-D374-40FA-A84B-AEE5B23E1FE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70E-9A83-497D-9E5E-7A11CB063955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8400-EF42-4EB6-A505-74E1E21586B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6CF-E2A1-47BB-A305-900E41BB3F3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C0F-B02F-4DEF-82C8-EE0A527614BB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471D-7A8B-455C-937C-09905819C38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22B-326F-4D6D-A59D-3083D37197E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0A5-9EE6-4C1F-AEA7-99C5A5A591E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5EA4-06B0-4267-885A-745DC041509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DFF6-6975-401C-B736-AB2084CBEA51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91F-2A39-4802-87A5-1F67BB6D63F5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19ED-DE26-4533-835F-D593809CB8B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427-5AA1-4DD3-A232-DD1F83E7656C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38D-EF15-4B88-83AA-514A539F0D1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8D2F-D857-41F6-8AE8-8CE24C3076D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2A81-A6F5-4494-B917-7CF0B45FC06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1EB2-B3B4-4C22-B358-419BE8E11C76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91BB-5512-41EC-A121-D6EF9E61B31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7F8B-C28E-4D78-93F1-1AA5DCD89A6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BDA-90CC-492B-868F-8A0225D1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36A-B8C5-4D54-9489-E1A6C3C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1F1-E113-4CFD-8C1B-1AD76904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AF4-A855-4234-AB65-895B25B9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098-53E5-4BFA-B2DE-7D1D2857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5978-07EE-42E6-BC00-77B5509F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855A-023A-4D67-8394-EF65F131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6140-2D6B-4C3E-8873-0AC8F1A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341-246A-4D56-8CAE-A3C48EFF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34E-791B-4CC4-9349-CC8CB4E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00D-E764-4C0B-839C-DD73D9D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6DD-DD90-444D-9A1B-7DA5A357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D76-B530-4ED3-96C9-3FF276A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28E0-9E7B-4F9A-A822-D42A14A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CE0E-678B-4004-829D-6F7DC83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71EC-81FD-4D4D-9538-F476E94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EC8B-D6E4-4EFF-A317-0E6FEEF9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396-E38D-4617-A45B-E73A3C1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3E6-64C0-4187-93F7-0A3668E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2D1-AE38-4D95-AFD9-707AFEE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51B-9481-42B6-8214-157FA89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FDA-0C76-4622-8EFA-3A4C35D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4D6-C9CE-4A5B-9AD4-CC844AD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F63-1156-4FF8-BBD1-AD98C18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E6B-FC57-46B1-81B6-7236322792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2817-B22E-480A-8F83-AD80332DEA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755640" y="260280"/>
            <a:ext cx="763272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Questions may involve any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description of acids and bases in terms of proton trans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calculations involving K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and p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(K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][OH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giv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comparison of properties of aqueous solutions of strong and weak acids and bases (properties restricted to conductivity, rate of reaction and p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cognition of acid-base properties of ionic compounds that contain only one ion that changes the pH of wat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50920" y="333360"/>
            <a:ext cx="87138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Exercises</a:t>
            </a:r>
            <a:r>
              <a:rPr b="1" i="1" lang="en-AU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1.  Complete the acid/base pairs for each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(a)  acids -  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C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bases -  HC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 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2-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OH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               Cl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bases - H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     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i="1" lang="en-AU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      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C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COO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acids  - 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H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         C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COO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95280" y="530064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Which of the species listed above can be classified as amphiprotic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908000" y="1844640"/>
            <a:ext cx="11512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851280" y="126828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5364000" y="3429000"/>
            <a:ext cx="11512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3708360" y="407664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j0251063"/>
          <p:cNvPicPr/>
          <p:nvPr/>
        </p:nvPicPr>
        <p:blipFill>
          <a:blip r:embed="rId1"/>
          <a:stretch/>
        </p:blipFill>
        <p:spPr>
          <a:xfrm>
            <a:off x="2124000" y="0"/>
            <a:ext cx="876240" cy="907920"/>
          </a:xfrm>
          <a:prstGeom prst="rect">
            <a:avLst/>
          </a:prstGeom>
          <a:ln w="0">
            <a:noFill/>
          </a:ln>
        </p:spPr>
      </p:pic>
      <p:sp>
        <p:nvSpPr>
          <p:cNvPr id="186" name="Oval 9"/>
          <p:cNvSpPr/>
          <p:nvPr/>
        </p:nvSpPr>
        <p:spPr>
          <a:xfrm>
            <a:off x="5508720" y="126828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1763640" y="342900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70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urn to page154 in your lab book – Acids and bases complete the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. Water is very poor conductor of electricity. Explain wh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e water ionises to a very slight extent to produce the following concentrations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] = 1 x 10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[OH-]   = 1 x 10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ch concentrations have a very small charge carrying capa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50920" y="333360"/>
            <a:ext cx="835344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2. Write a chemical equation to show what        happens in a neutralisation reac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aq) +   OH- (aq)            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78800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907320"/>
        </p:xfrm>
        <a:graphic>
          <a:graphicData uri="http://schemas.openxmlformats.org/drawingml/2006/table">
            <a:tbl>
              <a:tblPr/>
              <a:tblGrid>
                <a:gridCol w="2286000"/>
                <a:gridCol w="1925640"/>
                <a:gridCol w="264636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Compoun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ecies presen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solution acidic, basic or neutral ?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mula of contributing 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ac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carbon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onium chlorid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ethano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nitr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ssium chlorid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hydrogen sulf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79"/>
          <p:cNvSpPr/>
          <p:nvPr/>
        </p:nvSpPr>
        <p:spPr>
          <a:xfrm>
            <a:off x="2411280" y="981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2"/>
          <p:cNvSpPr/>
          <p:nvPr/>
        </p:nvSpPr>
        <p:spPr>
          <a:xfrm>
            <a:off x="2484360" y="907920"/>
            <a:ext cx="1727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5"/>
          <p:cNvSpPr/>
          <p:nvPr/>
        </p:nvSpPr>
        <p:spPr>
          <a:xfrm>
            <a:off x="4859280" y="98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6"/>
          <p:cNvSpPr/>
          <p:nvPr/>
        </p:nvSpPr>
        <p:spPr>
          <a:xfrm>
            <a:off x="4932360" y="27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7"/>
          <p:cNvSpPr/>
          <p:nvPr/>
        </p:nvSpPr>
        <p:spPr>
          <a:xfrm>
            <a:off x="493236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9"/>
          <p:cNvSpPr/>
          <p:nvPr/>
        </p:nvSpPr>
        <p:spPr>
          <a:xfrm>
            <a:off x="493236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90"/>
          <p:cNvSpPr/>
          <p:nvPr/>
        </p:nvSpPr>
        <p:spPr>
          <a:xfrm>
            <a:off x="493236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91"/>
          <p:cNvSpPr/>
          <p:nvPr/>
        </p:nvSpPr>
        <p:spPr>
          <a:xfrm>
            <a:off x="485928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2"/>
          <p:cNvSpPr/>
          <p:nvPr/>
        </p:nvSpPr>
        <p:spPr>
          <a:xfrm>
            <a:off x="5003640" y="609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3"/>
          <p:cNvSpPr/>
          <p:nvPr/>
        </p:nvSpPr>
        <p:spPr>
          <a:xfrm>
            <a:off x="7451640" y="1052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4"/>
          <p:cNvSpPr/>
          <p:nvPr/>
        </p:nvSpPr>
        <p:spPr>
          <a:xfrm>
            <a:off x="7380360" y="1989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5"/>
          <p:cNvSpPr/>
          <p:nvPr/>
        </p:nvSpPr>
        <p:spPr>
          <a:xfrm>
            <a:off x="7380360" y="2852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6"/>
          <p:cNvSpPr/>
          <p:nvPr/>
        </p:nvSpPr>
        <p:spPr>
          <a:xfrm>
            <a:off x="7093080" y="364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7"/>
          <p:cNvSpPr/>
          <p:nvPr/>
        </p:nvSpPr>
        <p:spPr>
          <a:xfrm>
            <a:off x="766764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8"/>
          <p:cNvSpPr/>
          <p:nvPr/>
        </p:nvSpPr>
        <p:spPr>
          <a:xfrm>
            <a:off x="7740720" y="5084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9"/>
          <p:cNvSpPr/>
          <p:nvPr/>
        </p:nvSpPr>
        <p:spPr>
          <a:xfrm>
            <a:off x="7380360" y="60213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0"/>
          <p:cNvSpPr/>
          <p:nvPr/>
        </p:nvSpPr>
        <p:spPr>
          <a:xfrm>
            <a:off x="2411280" y="1700280"/>
            <a:ext cx="21607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H-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2484360" y="270828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Cl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2411280" y="3357720"/>
            <a:ext cx="172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5"/>
          <p:cNvSpPr/>
          <p:nvPr/>
        </p:nvSpPr>
        <p:spPr>
          <a:xfrm>
            <a:off x="2411280" y="4292640"/>
            <a:ext cx="17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6"/>
          <p:cNvSpPr/>
          <p:nvPr/>
        </p:nvSpPr>
        <p:spPr>
          <a:xfrm>
            <a:off x="2556000" y="50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+,  Cl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7"/>
          <p:cNvSpPr/>
          <p:nvPr/>
        </p:nvSpPr>
        <p:spPr>
          <a:xfrm>
            <a:off x="2340000" y="6093000"/>
            <a:ext cx="18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H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Identify by symbol the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jugate b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follow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1844640"/>
            <a:ext cx="23036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) 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348000" y="907920"/>
            <a:ext cx="2592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642120" y="184464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573000" y="328464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H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515760" y="4797360"/>
            <a:ext cx="122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587400" y="5950080"/>
            <a:ext cx="1425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Identify by symbol the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jugate ac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follow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9640" y="1844640"/>
            <a:ext cx="23036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-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) 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) 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348000" y="907920"/>
            <a:ext cx="2592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636720" y="18446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573000" y="3284640"/>
            <a:ext cx="1217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510000" y="4797360"/>
            <a:ext cx="143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586680" y="595008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95280" y="404640"/>
            <a:ext cx="874872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6. Hydrogen Chloride and ammonia .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(a)  HCl       +      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+     Cl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(b) Water and the hydrogen sulfate 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     +     H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  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+      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2-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     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4140360" y="1341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4140360" y="458136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0" y="0"/>
            <a:ext cx="91440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ion Questions for Strong and weak acid Ex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lanced equations for the reactions involved ar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H  +  Ca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Ca(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+ 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HCl  +  Ca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Ca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+ 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How do the rates of reaction compare for acids of the same  concentr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ates involving the HCl solutions were much greater than those involving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H 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276720" y="263700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708360" y="1989000"/>
            <a:ext cx="35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08280" y="189000"/>
            <a:ext cx="6776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issociation constant of water, 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836640"/>
            <a:ext cx="8964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Pure water is a very weak conductor of electricity showing it contains a very low concentration of ions.  These ions are produced by the dissociation of water molecules as follow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    +    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   +     OH</a:t>
            </a:r>
            <a:r>
              <a:rPr b="0" lang="en-AU" sz="32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3492000" y="4508640"/>
            <a:ext cx="648000" cy="215280"/>
            <a:chOff x="3492000" y="4508640"/>
            <a:chExt cx="648000" cy="215280"/>
          </a:xfrm>
        </p:grpSpPr>
        <p:sp>
          <p:nvSpPr>
            <p:cNvPr id="237" name="Line 5"/>
            <p:cNvSpPr/>
            <p:nvPr/>
          </p:nvSpPr>
          <p:spPr>
            <a:xfrm>
              <a:off x="3492360" y="4579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 flipH="1" flipV="1">
              <a:off x="3924000" y="450864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H="1">
              <a:off x="3492000" y="465120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3492360" y="465120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9" descr="j0251063"/>
          <p:cNvPicPr/>
          <p:nvPr/>
        </p:nvPicPr>
        <p:blipFill>
          <a:blip r:embed="rId1"/>
          <a:stretch/>
        </p:blipFill>
        <p:spPr>
          <a:xfrm>
            <a:off x="468360" y="5157720"/>
            <a:ext cx="1388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0" y="222120"/>
            <a:ext cx="8964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issociation constant of water,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    +    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    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    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     +     OH</a:t>
            </a:r>
            <a:r>
              <a:rPr b="0" i="1" lang="en-AU" sz="32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 equilibrium lies well to the left so that most of the water is in the molecular form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nce each dissociation produces both a hydronium ([H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) and a hydroxide (OH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) ion it follows that [H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 = [OH</a:t>
            </a:r>
            <a:r>
              <a:rPr b="0" i="1" lang="en-AU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At 25 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C, the concentration of both spec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(ie H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O+ and OH-) = 1 x 10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mol L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3779640" y="1916280"/>
            <a:ext cx="648000" cy="215280"/>
            <a:chOff x="3779640" y="1916280"/>
            <a:chExt cx="648000" cy="215280"/>
          </a:xfrm>
        </p:grpSpPr>
        <p:sp>
          <p:nvSpPr>
            <p:cNvPr id="244" name="Line 6"/>
            <p:cNvSpPr/>
            <p:nvPr/>
          </p:nvSpPr>
          <p:spPr>
            <a:xfrm>
              <a:off x="3780000" y="198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 flipH="1" flipV="1">
              <a:off x="4211640" y="1916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 flipH="1">
              <a:off x="3779640" y="2058840"/>
              <a:ext cx="647640" cy="0"/>
            </a:xfrm>
            <a:prstGeom prst="line">
              <a:avLst/>
            </a:prstGeom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"/>
            <p:cNvSpPr/>
            <p:nvPr/>
          </p:nvSpPr>
          <p:spPr>
            <a:xfrm>
              <a:off x="3780000" y="2058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476280"/>
            <a:ext cx="736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Acids were originally classified in terms of the following behaviour in aqueous solu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turn blue litmus 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have a pH less than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neutralise b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react with metal carbonates which fizzes and produces C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g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react with active metals to produce hydrogen gas (but not with Cu, Ag or Au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taste sou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Phosphoric_Acid"/>
          <p:cNvPicPr/>
          <p:nvPr/>
        </p:nvPicPr>
        <p:blipFill>
          <a:blip r:embed="rId1"/>
          <a:stretch/>
        </p:blipFill>
        <p:spPr>
          <a:xfrm>
            <a:off x="702000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549360"/>
            <a:ext cx="914400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s the dissociation constant for pure water and it is given by the eq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i="1" lang="en-AU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]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= (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) x  (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=  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84360" y="5013360"/>
            <a:ext cx="79214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ff"/>
                </a:solidFill>
                <a:latin typeface="Comic Sans MS"/>
              </a:rPr>
              <a:t>In this course we will not assign K</a:t>
            </a:r>
            <a:r>
              <a:rPr b="0" lang="en-NZ" sz="4000" spc="-1" strike="noStrike" baseline="-25000">
                <a:solidFill>
                  <a:srgbClr val="66ffff"/>
                </a:solidFill>
                <a:latin typeface="Comic Sans MS"/>
              </a:rPr>
              <a:t>w</a:t>
            </a:r>
            <a:r>
              <a:rPr b="0" lang="en-NZ" sz="4000" spc="-1" strike="noStrike">
                <a:solidFill>
                  <a:srgbClr val="66ffff"/>
                </a:solidFill>
                <a:latin typeface="Comic Sans MS"/>
              </a:rPr>
              <a:t> un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28600" y="457200"/>
            <a:ext cx="914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an acid is added to pure water then the [H</a:t>
            </a:r>
            <a:r>
              <a:rPr b="0" lang="en-AU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increases and at the same time [O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decreases so that the product of the two concentrations remains unchanged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04920" y="2819520"/>
            <a:ext cx="8534160" cy="3174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 given a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+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OH- concentration we can use t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w =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+] [OH-] expression to find an unknown concent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Kw = 1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857160" y="6072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is concept is very important – and use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95280" y="644400"/>
            <a:ext cx="8353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For example if [H</a:t>
            </a:r>
            <a:r>
              <a:rPr b="1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= 2.5 x 10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-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mol L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find the [OH-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1692360" y="3429000"/>
                <a:ext cx="19112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O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708360" y="3429000"/>
                <a:ext cx="1513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ectangle 5"/>
          <p:cNvSpPr/>
          <p:nvPr/>
        </p:nvSpPr>
        <p:spPr>
          <a:xfrm>
            <a:off x="-828720" y="36439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[OH</a:t>
            </a:r>
            <a:r>
              <a:rPr b="1" lang="en-AU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] =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356800" y="3643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= 4.0 x 10</a:t>
            </a:r>
            <a:r>
              <a:rPr b="1" lang="en-AU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2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mol L</a:t>
            </a:r>
            <a:r>
              <a:rPr b="1" lang="en-AU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5280" y="1989000"/>
            <a:ext cx="87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00"/>
                </a:solidFill>
                <a:latin typeface="Arial"/>
              </a:rPr>
              <a:t>Rearrange K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= [H</a:t>
            </a:r>
            <a:r>
              <a:rPr b="1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x [OH</a:t>
            </a:r>
            <a:r>
              <a:rPr b="1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to find the OH- concent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8" descr="j0251063"/>
          <p:cNvPicPr/>
          <p:nvPr/>
        </p:nvPicPr>
        <p:blipFill>
          <a:blip r:embed="rId1"/>
          <a:stretch/>
        </p:blipFill>
        <p:spPr>
          <a:xfrm>
            <a:off x="7236000" y="530064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Complete the following table using the prev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Kw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835280" y="1557360"/>
            <a:ext cx="6307560" cy="4326840"/>
            <a:chOff x="1835280" y="1557360"/>
            <a:chExt cx="6307560" cy="4326840"/>
          </a:xfrm>
        </p:grpSpPr>
        <p:grpSp>
          <p:nvGrpSpPr>
            <p:cNvPr id="262" name="Group 5"/>
            <p:cNvGrpSpPr/>
            <p:nvPr/>
          </p:nvGrpSpPr>
          <p:grpSpPr>
            <a:xfrm>
              <a:off x="1835280" y="1557360"/>
              <a:ext cx="2175480" cy="846720"/>
              <a:chOff x="1835280" y="1557360"/>
              <a:chExt cx="2175480" cy="846720"/>
            </a:xfrm>
          </p:grpSpPr>
          <p:sp>
            <p:nvSpPr>
              <p:cNvPr id="263" name="Rectangle 6"/>
              <p:cNvSpPr/>
              <p:nvPr/>
            </p:nvSpPr>
            <p:spPr>
              <a:xfrm>
                <a:off x="1945080" y="1557360"/>
                <a:ext cx="195552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[H</a:t>
                </a:r>
                <a:r>
                  <a:rPr b="1" lang="en-AU" sz="2400" spc="-1" strike="noStrike" baseline="-30000">
                    <a:solidFill>
                      <a:srgbClr val="ffff00"/>
                    </a:solidFill>
                    <a:latin typeface="Arial"/>
                    <a:ea typeface="Arial"/>
                  </a:rPr>
                  <a:t>3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O</a:t>
                </a:r>
                <a:r>
                  <a:rPr b="1" lang="en-AU" sz="2400" spc="-1" strike="noStrike" baseline="30000">
                    <a:solidFill>
                      <a:srgbClr val="ffff00"/>
                    </a:solidFill>
                    <a:latin typeface="Arial"/>
                    <a:ea typeface="Arial"/>
                  </a:rPr>
                  <a:t>+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]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"/>
              <p:cNvSpPr/>
              <p:nvPr/>
            </p:nvSpPr>
            <p:spPr>
              <a:xfrm>
                <a:off x="1835280" y="1557360"/>
                <a:ext cx="217548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8"/>
            <p:cNvGrpSpPr/>
            <p:nvPr/>
          </p:nvGrpSpPr>
          <p:grpSpPr>
            <a:xfrm>
              <a:off x="4011120" y="1557360"/>
              <a:ext cx="2066040" cy="846720"/>
              <a:chOff x="4011120" y="1557360"/>
              <a:chExt cx="2066040" cy="846720"/>
            </a:xfrm>
          </p:grpSpPr>
          <p:sp>
            <p:nvSpPr>
              <p:cNvPr id="266" name="Rectangle 9"/>
              <p:cNvSpPr/>
              <p:nvPr/>
            </p:nvSpPr>
            <p:spPr>
              <a:xfrm>
                <a:off x="4120920" y="1557360"/>
                <a:ext cx="184608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[OH</a:t>
                </a:r>
                <a:r>
                  <a:rPr b="0" i="1" lang="en-AU" sz="24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]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4011120" y="1557360"/>
                <a:ext cx="206604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1"/>
            <p:cNvGrpSpPr/>
            <p:nvPr/>
          </p:nvGrpSpPr>
          <p:grpSpPr>
            <a:xfrm>
              <a:off x="6077520" y="1557360"/>
              <a:ext cx="2065320" cy="846720"/>
              <a:chOff x="6077520" y="1557360"/>
              <a:chExt cx="2065320" cy="846720"/>
            </a:xfrm>
          </p:grpSpPr>
          <p:sp>
            <p:nvSpPr>
              <p:cNvPr id="269" name="Rectangle 12"/>
              <p:cNvSpPr/>
              <p:nvPr/>
            </p:nvSpPr>
            <p:spPr>
              <a:xfrm>
                <a:off x="6186600" y="1557360"/>
                <a:ext cx="184572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acid or base?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6077520" y="1557360"/>
                <a:ext cx="206532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4"/>
            <p:cNvGrpSpPr/>
            <p:nvPr/>
          </p:nvGrpSpPr>
          <p:grpSpPr>
            <a:xfrm>
              <a:off x="1835280" y="2404440"/>
              <a:ext cx="2175480" cy="869760"/>
              <a:chOff x="1835280" y="2404440"/>
              <a:chExt cx="2175480" cy="869760"/>
            </a:xfrm>
          </p:grpSpPr>
          <p:sp>
            <p:nvSpPr>
              <p:cNvPr id="272" name="Rectangle 15"/>
              <p:cNvSpPr/>
              <p:nvPr/>
            </p:nvSpPr>
            <p:spPr>
              <a:xfrm>
                <a:off x="1945080" y="240444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.4 x 10</a:t>
                </a:r>
                <a:r>
                  <a:rPr b="0" lang="en-AU" sz="24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3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1835280" y="240444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4011120" y="2404440"/>
              <a:ext cx="2066040" cy="869760"/>
              <a:chOff x="4011120" y="2404440"/>
              <a:chExt cx="2066040" cy="869760"/>
            </a:xfrm>
          </p:grpSpPr>
          <p:sp>
            <p:nvSpPr>
              <p:cNvPr id="275" name="Rectangle 18"/>
              <p:cNvSpPr/>
              <p:nvPr/>
            </p:nvSpPr>
            <p:spPr>
              <a:xfrm>
                <a:off x="4120920" y="240444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4011120" y="240444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0"/>
            <p:cNvGrpSpPr/>
            <p:nvPr/>
          </p:nvGrpSpPr>
          <p:grpSpPr>
            <a:xfrm>
              <a:off x="6077520" y="2404440"/>
              <a:ext cx="2065320" cy="869760"/>
              <a:chOff x="6077520" y="2404440"/>
              <a:chExt cx="2065320" cy="869760"/>
            </a:xfrm>
          </p:grpSpPr>
          <p:sp>
            <p:nvSpPr>
              <p:cNvPr id="278" name="Rectangle 21"/>
              <p:cNvSpPr/>
              <p:nvPr/>
            </p:nvSpPr>
            <p:spPr>
              <a:xfrm>
                <a:off x="6186600" y="240444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22"/>
              <p:cNvSpPr/>
              <p:nvPr/>
            </p:nvSpPr>
            <p:spPr>
              <a:xfrm>
                <a:off x="6077520" y="240444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23"/>
            <p:cNvGrpSpPr/>
            <p:nvPr/>
          </p:nvGrpSpPr>
          <p:grpSpPr>
            <a:xfrm>
              <a:off x="1835280" y="3274560"/>
              <a:ext cx="2175480" cy="869760"/>
              <a:chOff x="1835280" y="3274560"/>
              <a:chExt cx="2175480" cy="869760"/>
            </a:xfrm>
          </p:grpSpPr>
          <p:sp>
            <p:nvSpPr>
              <p:cNvPr id="281" name="Rectangle 24"/>
              <p:cNvSpPr/>
              <p:nvPr/>
            </p:nvSpPr>
            <p:spPr>
              <a:xfrm>
                <a:off x="1945080" y="327456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017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1835280" y="327456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4011120" y="3274560"/>
              <a:ext cx="2066040" cy="869760"/>
              <a:chOff x="4011120" y="3274560"/>
              <a:chExt cx="2066040" cy="869760"/>
            </a:xfrm>
          </p:grpSpPr>
          <p:sp>
            <p:nvSpPr>
              <p:cNvPr id="284" name="Rectangle 27"/>
              <p:cNvSpPr/>
              <p:nvPr/>
            </p:nvSpPr>
            <p:spPr>
              <a:xfrm>
                <a:off x="4120920" y="327456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28"/>
              <p:cNvSpPr/>
              <p:nvPr/>
            </p:nvSpPr>
            <p:spPr>
              <a:xfrm>
                <a:off x="4011120" y="327456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9"/>
            <p:cNvGrpSpPr/>
            <p:nvPr/>
          </p:nvGrpSpPr>
          <p:grpSpPr>
            <a:xfrm>
              <a:off x="6077520" y="3274560"/>
              <a:ext cx="2065320" cy="869760"/>
              <a:chOff x="6077520" y="3274560"/>
              <a:chExt cx="2065320" cy="869760"/>
            </a:xfrm>
          </p:grpSpPr>
          <p:sp>
            <p:nvSpPr>
              <p:cNvPr id="287" name="Rectangle 30"/>
              <p:cNvSpPr/>
              <p:nvPr/>
            </p:nvSpPr>
            <p:spPr>
              <a:xfrm>
                <a:off x="6186600" y="327456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6077520" y="327456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835280" y="4144680"/>
              <a:ext cx="2175480" cy="869040"/>
              <a:chOff x="1835280" y="4144680"/>
              <a:chExt cx="2175480" cy="869040"/>
            </a:xfrm>
          </p:grpSpPr>
          <p:sp>
            <p:nvSpPr>
              <p:cNvPr id="290" name="Rectangle 33"/>
              <p:cNvSpPr/>
              <p:nvPr/>
            </p:nvSpPr>
            <p:spPr>
              <a:xfrm>
                <a:off x="1945080" y="4144680"/>
                <a:ext cx="195552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34"/>
              <p:cNvSpPr/>
              <p:nvPr/>
            </p:nvSpPr>
            <p:spPr>
              <a:xfrm>
                <a:off x="1835280" y="4144680"/>
                <a:ext cx="217548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35"/>
            <p:cNvGrpSpPr/>
            <p:nvPr/>
          </p:nvGrpSpPr>
          <p:grpSpPr>
            <a:xfrm>
              <a:off x="4011120" y="4144680"/>
              <a:ext cx="2066040" cy="869040"/>
              <a:chOff x="4011120" y="4144680"/>
              <a:chExt cx="2066040" cy="869040"/>
            </a:xfrm>
          </p:grpSpPr>
          <p:sp>
            <p:nvSpPr>
              <p:cNvPr id="293" name="Rectangle 36"/>
              <p:cNvSpPr/>
              <p:nvPr/>
            </p:nvSpPr>
            <p:spPr>
              <a:xfrm>
                <a:off x="4120920" y="4144680"/>
                <a:ext cx="184608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0036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37"/>
              <p:cNvSpPr/>
              <p:nvPr/>
            </p:nvSpPr>
            <p:spPr>
              <a:xfrm>
                <a:off x="4011120" y="4144680"/>
                <a:ext cx="206604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8"/>
            <p:cNvGrpSpPr/>
            <p:nvPr/>
          </p:nvGrpSpPr>
          <p:grpSpPr>
            <a:xfrm>
              <a:off x="6077520" y="4144680"/>
              <a:ext cx="2065320" cy="869040"/>
              <a:chOff x="6077520" y="4144680"/>
              <a:chExt cx="2065320" cy="869040"/>
            </a:xfrm>
          </p:grpSpPr>
          <p:sp>
            <p:nvSpPr>
              <p:cNvPr id="296" name="Rectangle 39"/>
              <p:cNvSpPr/>
              <p:nvPr/>
            </p:nvSpPr>
            <p:spPr>
              <a:xfrm>
                <a:off x="6186600" y="4144680"/>
                <a:ext cx="184572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6077520" y="4144680"/>
                <a:ext cx="206532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1"/>
            <p:cNvGrpSpPr/>
            <p:nvPr/>
          </p:nvGrpSpPr>
          <p:grpSpPr>
            <a:xfrm>
              <a:off x="1835280" y="5014440"/>
              <a:ext cx="2175480" cy="869760"/>
              <a:chOff x="1835280" y="5014440"/>
              <a:chExt cx="2175480" cy="869760"/>
            </a:xfrm>
          </p:grpSpPr>
          <p:sp>
            <p:nvSpPr>
              <p:cNvPr id="299" name="Rectangle 42"/>
              <p:cNvSpPr/>
              <p:nvPr/>
            </p:nvSpPr>
            <p:spPr>
              <a:xfrm>
                <a:off x="1945080" y="501444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43"/>
              <p:cNvSpPr/>
              <p:nvPr/>
            </p:nvSpPr>
            <p:spPr>
              <a:xfrm>
                <a:off x="1835280" y="501444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4"/>
            <p:cNvGrpSpPr/>
            <p:nvPr/>
          </p:nvGrpSpPr>
          <p:grpSpPr>
            <a:xfrm>
              <a:off x="4011120" y="5014440"/>
              <a:ext cx="2066040" cy="869760"/>
              <a:chOff x="4011120" y="5014440"/>
              <a:chExt cx="2066040" cy="869760"/>
            </a:xfrm>
          </p:grpSpPr>
          <p:sp>
            <p:nvSpPr>
              <p:cNvPr id="302" name="Rectangle 45"/>
              <p:cNvSpPr/>
              <p:nvPr/>
            </p:nvSpPr>
            <p:spPr>
              <a:xfrm>
                <a:off x="4120920" y="501444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.4 x 10</a:t>
                </a:r>
                <a:r>
                  <a:rPr b="0" lang="en-AU" sz="24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10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46"/>
              <p:cNvSpPr/>
              <p:nvPr/>
            </p:nvSpPr>
            <p:spPr>
              <a:xfrm>
                <a:off x="4011120" y="501444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7"/>
            <p:cNvGrpSpPr/>
            <p:nvPr/>
          </p:nvGrpSpPr>
          <p:grpSpPr>
            <a:xfrm>
              <a:off x="6077520" y="5014440"/>
              <a:ext cx="2065320" cy="869760"/>
              <a:chOff x="6077520" y="5014440"/>
              <a:chExt cx="2065320" cy="869760"/>
            </a:xfrm>
          </p:grpSpPr>
          <p:sp>
            <p:nvSpPr>
              <p:cNvPr id="305" name="Rectangle 48"/>
              <p:cNvSpPr/>
              <p:nvPr/>
            </p:nvSpPr>
            <p:spPr>
              <a:xfrm>
                <a:off x="6186600" y="501444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9"/>
              <p:cNvSpPr/>
              <p:nvPr/>
            </p:nvSpPr>
            <p:spPr>
              <a:xfrm>
                <a:off x="6077520" y="501444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Rectangle 50"/>
          <p:cNvSpPr/>
          <p:nvPr/>
        </p:nvSpPr>
        <p:spPr>
          <a:xfrm>
            <a:off x="1835280" y="1557360"/>
            <a:ext cx="6324480" cy="43434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4140360" y="25653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4.17 x10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4140360" y="342900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5.71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53"/>
          <p:cNvSpPr/>
          <p:nvPr/>
        </p:nvSpPr>
        <p:spPr>
          <a:xfrm>
            <a:off x="1979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2.78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5"/>
          <p:cNvSpPr/>
          <p:nvPr/>
        </p:nvSpPr>
        <p:spPr>
          <a:xfrm>
            <a:off x="197964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1.85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6"/>
          <p:cNvSpPr/>
          <p:nvPr/>
        </p:nvSpPr>
        <p:spPr>
          <a:xfrm>
            <a:off x="644364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7"/>
          <p:cNvSpPr/>
          <p:nvPr/>
        </p:nvSpPr>
        <p:spPr>
          <a:xfrm>
            <a:off x="6516720" y="35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6372360" y="4292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60"/>
          <p:cNvSpPr/>
          <p:nvPr/>
        </p:nvSpPr>
        <p:spPr>
          <a:xfrm>
            <a:off x="6372360" y="5229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179280" y="333360"/>
            <a:ext cx="871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ecause the H+ (or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+) concentration is a logrithmic scale and not a linear scale we use the pH scale to express the acidity of a sol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 the p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50920" y="4005360"/>
            <a:ext cx="87138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O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is is the same  for an OH- ion concentration to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Likewise the pO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O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260280"/>
            <a:ext cx="871380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p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In pure water,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= 1 x 10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7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mol L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 pH = -log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(1 x 10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7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) = 7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ny solution with a pH = 7.0 is a neutral sol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ince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= [OH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, ie. neither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or [OH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is in exces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pH of an acidic solution is &lt; 7, while the pH of a basic solution is &gt;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0" y="0"/>
            <a:ext cx="8497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athematically pH and pOH  are related to each o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0920" y="1197000"/>
            <a:ext cx="8893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Arial"/>
              </a:rPr>
              <a:t>Remember in the dissociation of pure H</a:t>
            </a:r>
            <a:r>
              <a:rPr b="1" i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=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=  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225800" y="4510080"/>
            <a:ext cx="289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+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375200" y="3716280"/>
            <a:ext cx="20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[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708360" y="3716280"/>
            <a:ext cx="64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+  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[OH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    = 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211640" y="4508640"/>
            <a:ext cx="368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=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1476360" y="5229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7                 +             7           = 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763640" y="6021360"/>
            <a:ext cx="7056360" cy="5205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                 +       pOH           = 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0" y="5057640"/>
            <a:ext cx="16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is is handy to know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826920" y="6237360"/>
            <a:ext cx="865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24000" y="981000"/>
            <a:ext cx="8820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"/>
              </a:rPr>
              <a:t>pH Calculations (remember these!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pH = -log [H</a:t>
            </a:r>
            <a:r>
              <a:rPr b="1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[H</a:t>
            </a:r>
            <a:r>
              <a:rPr b="1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] = 10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-pH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j0251063"/>
          <p:cNvPicPr/>
          <p:nvPr/>
        </p:nvPicPr>
        <p:blipFill>
          <a:blip r:embed="rId1"/>
          <a:stretch/>
        </p:blipFill>
        <p:spPr>
          <a:xfrm>
            <a:off x="6877080" y="3357720"/>
            <a:ext cx="1388880" cy="1439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3059280" y="48690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OH = -log [OH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] = 10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2436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0"/>
            <a:ext cx="867564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Example calculation Finding 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ind the pH of a O.1molL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HCl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or any strong acid in water the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concentration = the concentration of the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So pH = -log [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]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= -log [0.1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=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We can also find the  pOH using the formula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 +  pOH  =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e     1  + 13 = 14  therefore the pOH of the solution is 13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0" y="33336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 Finding H</a:t>
            </a:r>
            <a:r>
              <a:rPr b="1" lang="en-NZ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+ concentration from 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alculate the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concentration from a pH of 3.2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pH = -log 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rearrang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3.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6.31 x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4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olL-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476280"/>
            <a:ext cx="7361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Bases were originally classified in terms of the following behaviour in aqueous solu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urn red litmus blu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ave a pH greater than 7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utralise acids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ste bitt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eel so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Phosphoric_Acid"/>
          <p:cNvPicPr/>
          <p:nvPr/>
        </p:nvPicPr>
        <p:blipFill>
          <a:blip r:embed="rId1"/>
          <a:stretch/>
        </p:blipFill>
        <p:spPr>
          <a:xfrm>
            <a:off x="702000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33336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 Finding OH- concentration from 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alculate the  OH- concentration from a pOH of 8.4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pOH = -log [OH-]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rearrang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8.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3.98 x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olL-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1268280"/>
          <a:ext cx="8545680" cy="5040360"/>
        </p:xfrm>
        <a:graphic>
          <a:graphicData uri="http://schemas.openxmlformats.org/drawingml/2006/table">
            <a:tbl>
              <a:tblPr/>
              <a:tblGrid>
                <a:gridCol w="2138400"/>
                <a:gridCol w="2133720"/>
                <a:gridCol w="2136600"/>
                <a:gridCol w="213696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[H</a:t>
                      </a:r>
                      <a:r>
                        <a:rPr b="1" lang="en-AU" sz="24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AU" sz="2400" spc="-1" strike="noStrike" baseline="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[OH</a:t>
                      </a:r>
                      <a:r>
                        <a:rPr b="0" lang="en-AU" sz="2400" spc="-1" strike="noStrike" baseline="30000">
                          <a:solidFill>
                            <a:srgbClr val="00ff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pO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4 x 10</a:t>
                      </a:r>
                      <a:r>
                        <a:rPr b="1" lang="en-AU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7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Rectangle 28"/>
          <p:cNvSpPr/>
          <p:nvPr/>
        </p:nvSpPr>
        <p:spPr>
          <a:xfrm>
            <a:off x="1437840" y="40356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Comic Sans MS"/>
              </a:rPr>
              <a:t>Exercise: Complete the following ta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9" descr="j0251063"/>
          <p:cNvPicPr/>
          <p:nvPr/>
        </p:nvPicPr>
        <p:blipFill>
          <a:blip r:embed="rId1"/>
          <a:stretch/>
        </p:blipFill>
        <p:spPr>
          <a:xfrm>
            <a:off x="7524720" y="0"/>
            <a:ext cx="1111320" cy="1152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0"/>
          <p:cNvSpPr/>
          <p:nvPr/>
        </p:nvSpPr>
        <p:spPr>
          <a:xfrm>
            <a:off x="6443640" y="227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6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2195640" y="234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4.17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658800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1.7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2195640" y="35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5.75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4"/>
          <p:cNvSpPr/>
          <p:nvPr/>
        </p:nvSpPr>
        <p:spPr>
          <a:xfrm>
            <a:off x="25092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78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5"/>
          <p:cNvSpPr/>
          <p:nvPr/>
        </p:nvSpPr>
        <p:spPr>
          <a:xfrm>
            <a:off x="658800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11.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0" y="5589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5.01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226836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00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9"/>
          <p:cNvSpPr/>
          <p:nvPr/>
        </p:nvSpPr>
        <p:spPr>
          <a:xfrm>
            <a:off x="4643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4.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0"/>
          <p:cNvSpPr/>
          <p:nvPr/>
        </p:nvSpPr>
        <p:spPr>
          <a:xfrm>
            <a:off x="4643280" y="350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2.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1"/>
          <p:cNvSpPr/>
          <p:nvPr/>
        </p:nvSpPr>
        <p:spPr>
          <a:xfrm>
            <a:off x="4643280" y="45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.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2"/>
          <p:cNvSpPr/>
          <p:nvPr/>
        </p:nvSpPr>
        <p:spPr>
          <a:xfrm>
            <a:off x="485928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1.3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0" y="0"/>
            <a:ext cx="9144000" cy="70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te the pH problems on page 166 lab manu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the following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1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1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484360" y="126828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0.1 =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2664000" y="256536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1x10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3166920" y="3860640"/>
            <a:ext cx="59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1x10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987640" y="5157720"/>
            <a:ext cx="61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3x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6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3059280" y="6338880"/>
            <a:ext cx="60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log 5 x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914400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ing the relationship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[OH-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solutions with the following [OH-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1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1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0" y="0"/>
            <a:ext cx="914400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Arial"/>
              </a:rPr>
              <a:t>Strong Aci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These are Acids that dissociate (ie react fully) in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 to form a lot of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+ ions in solution to form solutions with very low pH ie 1- 2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Examples  HCl, HNO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HCl reacting with water is written 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    +  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i="1" lang="en-NZ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  +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i="1" lang="en-AU" sz="32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3780000" y="4941720"/>
            <a:ext cx="79200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50920" y="5516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How could you tell by just looking at the equation that this is a strong aci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91440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Arial"/>
              </a:rPr>
              <a:t>Weak Aci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hese are Acids that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dissociate (react) fully in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 and produce a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low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number of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+ ions in solution to give higher pH values than strong acids eg pH 3 - 5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Examples  C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OOH (ethanoic acid) HCOOH (methanoic acid) and N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+ (ammonium ion from a N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l salt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OOH reacting with water is written 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OOH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 + H</a:t>
            </a:r>
            <a:r>
              <a:rPr b="1" lang="pl-PL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O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i="1" lang="en-NZ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CH</a:t>
            </a:r>
            <a:r>
              <a:rPr b="1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OO</a:t>
            </a:r>
            <a:r>
              <a:rPr b="1" lang="en-NZ" sz="28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50920" y="57913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How could you tell by just looking at the equation that this is a </a:t>
            </a: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weak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aci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3924000" y="5013000"/>
            <a:ext cx="432000" cy="216360"/>
            <a:chOff x="3924000" y="5013000"/>
            <a:chExt cx="432000" cy="216360"/>
          </a:xfrm>
        </p:grpSpPr>
        <p:sp>
          <p:nvSpPr>
            <p:cNvPr id="364" name="Line 6"/>
            <p:cNvSpPr/>
            <p:nvPr/>
          </p:nvSpPr>
          <p:spPr>
            <a:xfrm>
              <a:off x="3924360" y="5085000"/>
              <a:ext cx="431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H="1" flipV="1">
              <a:off x="4212000" y="5013000"/>
              <a:ext cx="143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 flipH="1">
              <a:off x="3924000" y="5156280"/>
              <a:ext cx="431640" cy="0"/>
            </a:xfrm>
            <a:prstGeom prst="line">
              <a:avLst/>
            </a:prstGeom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9"/>
            <p:cNvSpPr/>
            <p:nvPr/>
          </p:nvSpPr>
          <p:spPr>
            <a:xfrm>
              <a:off x="3924360" y="5156280"/>
              <a:ext cx="9504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2b2b2"/>
                </a:solidFill>
                <a:latin typeface="Arial"/>
              </a:rPr>
              <a:t>Demo of Weak and strong ac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y the difference in conductivity of the two aci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68360" y="299736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urn to page 158 in Lab book: The Relative Strength of Aci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te the experiment recording your observations in the table on page 159 and then complete the discussion questions on page 15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0" y="0"/>
            <a:ext cx="9144000" cy="74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Questions pg 15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 the different rates of reaction obtained when solutions of HCl and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of the same concentration, reacted with Ca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tes of these reactions depend on [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ons in solution. The stronger acid HCl has completely dissociated and contains a higher 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initial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than the weak acid 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Questions pg 15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next question involves a very important concept you need to underst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ay pay to remember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91440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Cl and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are mixed separately with NaOH solution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acid will require the greater amount of NaOH for complete reaction? Explain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ronsted-Lowry acids and ba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ronsted acids are classified as those substances that donate a </a:t>
            </a:r>
            <a:r>
              <a:rPr b="1" lang="en-AU" sz="2800" spc="-1" strike="noStrike" u="sng">
                <a:solidFill>
                  <a:srgbClr val="66ff33"/>
                </a:solidFill>
                <a:uFillTx/>
                <a:latin typeface="Arial"/>
              </a:rPr>
              <a:t>proton (H</a:t>
            </a:r>
            <a:r>
              <a:rPr b="1" lang="en-AU" sz="28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1" lang="en-AU" sz="2800" spc="-1" strike="noStrike" u="sng">
                <a:solidFill>
                  <a:srgbClr val="66ff33"/>
                </a:solidFill>
                <a:uFillTx/>
                <a:latin typeface="Arial"/>
              </a:rPr>
              <a:t>)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a base, a proton acceptor.  Proton donation to a water molecule forms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hydronium) 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A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      +       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    +     A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                   base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95280" y="3357360"/>
            <a:ext cx="0" cy="50292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95280" y="3357720"/>
            <a:ext cx="309708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492360" y="3357720"/>
            <a:ext cx="0" cy="50292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50920" y="5084640"/>
            <a:ext cx="15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don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843280" y="515772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accep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284360" y="4005360"/>
            <a:ext cx="648000" cy="215280"/>
            <a:chOff x="4284360" y="4005360"/>
            <a:chExt cx="648000" cy="215280"/>
          </a:xfrm>
        </p:grpSpPr>
        <p:sp>
          <p:nvSpPr>
            <p:cNvPr id="117" name="Line 14"/>
            <p:cNvSpPr/>
            <p:nvPr/>
          </p:nvSpPr>
          <p:spPr>
            <a:xfrm>
              <a:off x="4284720" y="4076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H="1" flipV="1">
              <a:off x="4716360" y="400536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H="1">
              <a:off x="4284360" y="4147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4284720" y="414792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8"/>
          <p:cNvSpPr/>
          <p:nvPr/>
        </p:nvSpPr>
        <p:spPr>
          <a:xfrm>
            <a:off x="324000" y="285264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ccff"/>
                </a:solidFill>
                <a:latin typeface="Arial"/>
              </a:rPr>
              <a:t>Proton (H+) do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0" y="182520"/>
            <a:ext cx="914400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oth acids will need the             amount of NaOH. In the case of 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OH adding 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ons will  move the equilibrium to the R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en-NZ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OOH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+ 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CH</a:t>
            </a:r>
            <a:r>
              <a:rPr b="1" lang="en-NZ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OO</a:t>
            </a:r>
            <a:r>
              <a:rPr b="1" lang="en-NZ" sz="32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because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ons are removed by the addition of OH- ions and eventually,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NZ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OOH will give up all its potential H+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4140000" y="2707920"/>
            <a:ext cx="648000" cy="360000"/>
            <a:chOff x="4140000" y="2707920"/>
            <a:chExt cx="648000" cy="360000"/>
          </a:xfrm>
        </p:grpSpPr>
        <p:sp>
          <p:nvSpPr>
            <p:cNvPr id="376" name="Line 4"/>
            <p:cNvSpPr/>
            <p:nvPr/>
          </p:nvSpPr>
          <p:spPr>
            <a:xfrm>
              <a:off x="4140360" y="2827440"/>
              <a:ext cx="647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5"/>
            <p:cNvSpPr/>
            <p:nvPr/>
          </p:nvSpPr>
          <p:spPr>
            <a:xfrm flipH="1" flipV="1">
              <a:off x="4572000" y="2707920"/>
              <a:ext cx="215640" cy="1191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"/>
            <p:cNvSpPr/>
            <p:nvPr/>
          </p:nvSpPr>
          <p:spPr>
            <a:xfrm flipH="1">
              <a:off x="4140000" y="2946240"/>
              <a:ext cx="647640" cy="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4140360" y="2946240"/>
              <a:ext cx="142920" cy="121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Text Box 8"/>
          <p:cNvSpPr/>
          <p:nvPr/>
        </p:nvSpPr>
        <p:spPr>
          <a:xfrm>
            <a:off x="5219640" y="18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5003640" y="2492280"/>
            <a:ext cx="1008360" cy="86544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22920" y="3357720"/>
            <a:ext cx="289080" cy="28728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5364000" y="3716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ed by the addition of OH-  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7"/>
          <p:cNvGrpSpPr/>
          <p:nvPr/>
        </p:nvGrpSpPr>
        <p:grpSpPr>
          <a:xfrm>
            <a:off x="4140360" y="2707920"/>
            <a:ext cx="648720" cy="431280"/>
            <a:chOff x="4140360" y="2707920"/>
            <a:chExt cx="648720" cy="431280"/>
          </a:xfrm>
        </p:grpSpPr>
        <p:sp>
          <p:nvSpPr>
            <p:cNvPr id="385" name="Line 13"/>
            <p:cNvSpPr/>
            <p:nvPr/>
          </p:nvSpPr>
          <p:spPr>
            <a:xfrm>
              <a:off x="4140360" y="2850480"/>
              <a:ext cx="6487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 flipH="1" flipV="1">
              <a:off x="4571280" y="2707920"/>
              <a:ext cx="217080" cy="142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4140360" y="2993400"/>
              <a:ext cx="648720" cy="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4140360" y="2993400"/>
              <a:ext cx="143280" cy="14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5"/>
          <p:cNvSpPr/>
          <p:nvPr/>
        </p:nvSpPr>
        <p:spPr>
          <a:xfrm>
            <a:off x="0" y="0"/>
            <a:ext cx="9144000" cy="72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explan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Cl and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are mixed separately with NaOH solution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th acids will produce the same amount of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ons in solution with the NaO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(strong acid) HCl produces the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ons almost immediately and reacts quickly with the OH-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(weak acid)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ill produce the same number of 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ion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 a slower rate taking more time to react with the OH-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79280" y="260280"/>
            <a:ext cx="8640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How does a strong acid differ from a weak acid chemicall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ong acids react  faster than weak acids because initially there is a greate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available for reac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0" y="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Example calc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Find the pOH of a 0.012molL-1 NaOH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or any strong base in water the OH- concentration = the concentration of th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So pOH = -log [OH-]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OH = -log [0.01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OH = 1.9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We can also find the  pH using the formula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H   +  pOH  =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e                          12.08   + 1.92  = 14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herefore the pOH of the solution is 13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ronsted-Lowry acids and ba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ly proton donation from water to a base produces O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+       B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    B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+     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                  base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53964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2421000"/>
            <a:ext cx="237672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91636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4149720"/>
            <a:ext cx="15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don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627280" y="414972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accep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3779640" y="3212640"/>
            <a:ext cx="648000" cy="216360"/>
            <a:chOff x="3779640" y="3212640"/>
            <a:chExt cx="648000" cy="216360"/>
          </a:xfrm>
        </p:grpSpPr>
        <p:sp>
          <p:nvSpPr>
            <p:cNvPr id="129" name="Line 9"/>
            <p:cNvSpPr/>
            <p:nvPr/>
          </p:nvSpPr>
          <p:spPr>
            <a:xfrm>
              <a:off x="3780000" y="328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 flipH="1" flipV="1">
              <a:off x="4211640" y="321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H="1">
              <a:off x="3779640" y="335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3780000" y="335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13"/>
          <p:cNvSpPr/>
          <p:nvPr/>
        </p:nvSpPr>
        <p:spPr>
          <a:xfrm>
            <a:off x="324000" y="191628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ccff"/>
                </a:solidFill>
                <a:latin typeface="Arial"/>
              </a:rPr>
              <a:t>Proton (H+) do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948360" y="2637000"/>
            <a:ext cx="1800360" cy="1152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093080" y="3860280"/>
            <a:ext cx="43164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372360" y="479736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lution is now basic ie pH &gt; 7 because of the formation of OH- 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Conjugate acids and b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onjugate acid-base pai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f 2 species differ by just 1 proton they are classed as a conjugate acid-base pai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+     B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       B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+     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1               base 2          acid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bas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298764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987640" y="2421000"/>
            <a:ext cx="2376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536400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779640" y="3212640"/>
            <a:ext cx="648000" cy="216360"/>
            <a:chOff x="3779640" y="3212640"/>
            <a:chExt cx="648000" cy="216360"/>
          </a:xfrm>
        </p:grpSpPr>
        <p:sp>
          <p:nvSpPr>
            <p:cNvPr id="142" name="Line 9"/>
            <p:cNvSpPr/>
            <p:nvPr/>
          </p:nvSpPr>
          <p:spPr>
            <a:xfrm>
              <a:off x="3780000" y="328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 flipH="1" flipV="1">
              <a:off x="4211640" y="321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779640" y="335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3780000" y="335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Line 17"/>
          <p:cNvSpPr/>
          <p:nvPr/>
        </p:nvSpPr>
        <p:spPr>
          <a:xfrm flipV="1">
            <a:off x="755640" y="414972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755640" y="4653000"/>
            <a:ext cx="7056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7812000" y="414972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4000" y="4869000"/>
            <a:ext cx="8064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conjugate acid/base pairs in the above reaction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id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 / O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BH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/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755640" y="148428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Remember water can act as an acid by donating an H+ or a base by accepting an H+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9280" y="0"/>
            <a:ext cx="8964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Conjugate acid-base pai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If two species differ by just one proton they are classed as a </a:t>
            </a: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conjugate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ff00"/>
                </a:solidFill>
                <a:latin typeface="Arial"/>
              </a:rPr>
              <a:t>acid-base pair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.  Examples of acid-base pairs are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/H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, and 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/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.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Write the reaction of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with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+ 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          HSO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 +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j0251063"/>
          <p:cNvPicPr/>
          <p:nvPr/>
        </p:nvPicPr>
        <p:blipFill>
          <a:blip r:embed="rId1"/>
          <a:stretch/>
        </p:blipFill>
        <p:spPr>
          <a:xfrm>
            <a:off x="7812000" y="1700280"/>
            <a:ext cx="1112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2987280" y="2924280"/>
            <a:ext cx="648000" cy="215280"/>
            <a:chOff x="2987280" y="2924280"/>
            <a:chExt cx="648000" cy="215280"/>
          </a:xfrm>
        </p:grpSpPr>
        <p:sp>
          <p:nvSpPr>
            <p:cNvPr id="154" name="Line 5"/>
            <p:cNvSpPr/>
            <p:nvPr/>
          </p:nvSpPr>
          <p:spPr>
            <a:xfrm>
              <a:off x="2987640" y="2995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 flipH="1" flipV="1">
              <a:off x="3419280" y="2924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H="1">
              <a:off x="2987280" y="30668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2987640" y="3066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250920" y="4221000"/>
            <a:ext cx="46814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id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H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4</a:t>
            </a:r>
            <a:r>
              <a:rPr b="1" lang="en-NZ" sz="2400" spc="-1" strike="noStrike" baseline="30000">
                <a:solidFill>
                  <a:srgbClr val="66cc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                      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O</a:t>
            </a:r>
            <a:r>
              <a:rPr b="1" lang="en-NZ" sz="2400" spc="-1" strike="noStrike" baseline="30000">
                <a:solidFill>
                  <a:srgbClr val="66cc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 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508720" y="4005360"/>
            <a:ext cx="2881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acid is always the species with the additional proton.  It can also be said that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S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is the conjugate base of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2987280" y="2924280"/>
            <a:ext cx="648000" cy="215280"/>
            <a:chOff x="2987280" y="2924280"/>
            <a:chExt cx="648000" cy="215280"/>
          </a:xfrm>
        </p:grpSpPr>
        <p:sp>
          <p:nvSpPr>
            <p:cNvPr id="161" name="Line 13"/>
            <p:cNvSpPr/>
            <p:nvPr/>
          </p:nvSpPr>
          <p:spPr>
            <a:xfrm>
              <a:off x="2987640" y="2995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H="1" flipV="1">
              <a:off x="3419280" y="2924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2987280" y="30668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987640" y="3066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8"/>
          <p:cNvSpPr/>
          <p:nvPr/>
        </p:nvSpPr>
        <p:spPr>
          <a:xfrm>
            <a:off x="401040" y="350028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conjugate acid/base pairs in the above reaction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0920" y="260280"/>
            <a:ext cx="74898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ome substances can behave as both acids and bases. They are classed as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mphiprotic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eg.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or 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 OH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   +     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OH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   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987280" y="1844280"/>
            <a:ext cx="648000" cy="216360"/>
            <a:chOff x="2987280" y="1844280"/>
            <a:chExt cx="648000" cy="216360"/>
          </a:xfrm>
        </p:grpSpPr>
        <p:sp>
          <p:nvSpPr>
            <p:cNvPr id="168" name="Line 4"/>
            <p:cNvSpPr/>
            <p:nvPr/>
          </p:nvSpPr>
          <p:spPr>
            <a:xfrm>
              <a:off x="2987640" y="1916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H="1" flipV="1">
              <a:off x="3419280" y="184428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H="1">
              <a:off x="2987280" y="198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2987640" y="198756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2987280" y="4581000"/>
            <a:ext cx="648000" cy="216360"/>
            <a:chOff x="2987280" y="4581000"/>
            <a:chExt cx="648000" cy="216360"/>
          </a:xfrm>
        </p:grpSpPr>
        <p:sp>
          <p:nvSpPr>
            <p:cNvPr id="173" name="Line 9"/>
            <p:cNvSpPr/>
            <p:nvPr/>
          </p:nvSpPr>
          <p:spPr>
            <a:xfrm>
              <a:off x="2987640" y="465300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 flipV="1">
              <a:off x="3419280" y="458100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2987280" y="4724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>
              <a:off x="2987640" y="472428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13"/>
          <p:cNvSpPr/>
          <p:nvPr/>
        </p:nvSpPr>
        <p:spPr>
          <a:xfrm>
            <a:off x="250920" y="3068640"/>
            <a:ext cx="7850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HC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–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acting as an acid or a base in the above reactio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95280" y="5661000"/>
            <a:ext cx="7850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ere HC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–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is acting as base because it is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cepting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a proton in the above re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3:59:21Z</dcterms:created>
  <dc:creator>Ministry of Education</dc:creator>
  <dc:description/>
  <dc:language>en-US</dc:language>
  <cp:lastModifiedBy>Ministry of Education</cp:lastModifiedBy>
  <dcterms:modified xsi:type="dcterms:W3CDTF">2009-07-29T23:35:09Z</dcterms:modified>
  <cp:revision>54</cp:revision>
  <dc:subject/>
  <dc:title>Slide 1</dc:title>
</cp:coreProperties>
</file>